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DA0-8FA6-4698-AEF6-90B05F07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E84D-AF50-4781-BD16-3602DC62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EEE-BF13-4817-8793-D62CE6F8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BE5-E762-43D5-9CD6-E2455570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CAE85-AC72-4D50-BE81-FD61C160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663F1-CDC0-443D-B961-4B0AE5DD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E16C3-48A5-493C-8A0B-52C5B68A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2EDA6-81EB-4039-ACC6-5E3886FD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4742D-C7B1-4372-B5EB-81F52211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F78CC-7E86-4CEB-8517-8A5FF2B0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B1468-D87B-4F40-97A5-0F8C1FE8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6893-D61A-438E-A75A-D4BB74E6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D237C-685B-44BD-A283-8B967FBD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FAECE-7525-4E56-AA77-72706CE5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47ECA-CE33-4935-BC21-C6879F86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0A859-844E-4381-9C10-84D9BA5A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16E23-942C-462C-80C1-4E4F8D43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0096-F802-4C0B-A844-6CF07F92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4FD-CD05-4DB9-BE22-596A7251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B17-7B08-471B-A583-C2AF3A5C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130-29E1-48ED-B9AA-2730E4D1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95B2-6045-4CB9-A787-BF07F749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A74A-CBE3-4A25-8246-81763C9A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DC1F-4890-49F2-8896-7BCA2AB0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DEB5-55FB-4DD6-ABEA-4F1546CA5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9CAB-A9C6-420F-B07C-59BD2CD09B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ssion 1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cision Making and Commit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samples TND"/>
          <p:cNvPicPr/>
          <p:nvPr/>
        </p:nvPicPr>
        <p:blipFill>
          <a:blip r:embed="rId1">
            <a:lum bright="6000"/>
          </a:blip>
          <a:srcRect l="52001" t="1546" r="2941" b="8564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itle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1760" y="11430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IGHING THE PROS AND C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LECTING THE BEST OP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LLOWING THROUG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2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22856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rainstorming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king a list of ideas without judging th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2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-evaluate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-think, change your mind, chose aga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2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mitment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king an agreement and following through with 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2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3:21:45Z</dcterms:created>
  <dc:creator>Alica</dc:creator>
  <dc:description/>
  <dc:language>en-US</dc:language>
  <cp:lastModifiedBy>Leah Meza</cp:lastModifiedBy>
  <dcterms:modified xsi:type="dcterms:W3CDTF">2009-11-24T18:39:09Z</dcterms:modified>
  <cp:revision>18</cp:revision>
  <dc:subject/>
  <dc:title>Project TND  (Project Towards No Drug Abuse)</dc:title>
</cp:coreProperties>
</file>